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479-1668-429A-8A9D-DF55E422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B16-4EF3-4820-BA50-781748B6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787-D060-4BC3-BC8B-115AE856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4F0-A84E-49A4-A01B-97C3E4D2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EB2-9CA0-4BFD-8918-64DF512E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0D8-DB67-464E-B9FD-9705ECC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A84-BABC-4420-BD66-63742CC7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C45-5868-4461-9A79-EA5C9DFC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9E4-1351-466C-9231-FE28F1D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0AC-EB3C-4518-B5F3-A96A75A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7BB-9BC0-43FB-A462-67B199A2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48D-BF4F-4401-9219-8FF2D2C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5048-CA47-4902-9DC7-C0A30708D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industrial waste can affect food web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2133720" y="1523880"/>
            <a:ext cx="4619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1028"/>
          <p:cNvSpPr txBox="1"/>
          <p:nvPr/>
        </p:nvSpPr>
        <p:spPr>
          <a:xfrm>
            <a:off x="3419640" y="26028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0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Text Box 1030"/>
          <p:cNvSpPr/>
          <p:nvPr/>
        </p:nvSpPr>
        <p:spPr>
          <a:xfrm>
            <a:off x="-21960" y="2327400"/>
            <a:ext cx="982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ir 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2920" y="2936880"/>
            <a:ext cx="941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ood webs allow us to study environmental chan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2403360"/>
            <a:ext cx="8674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6480" y="2895480"/>
            <a:ext cx="8956080" cy="3751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/>
  <dc:language>en-US</dc:language>
  <cp:lastModifiedBy>Lyn Clarkson</cp:lastModifiedBy>
  <dcterms:modified xsi:type="dcterms:W3CDTF">2009-08-25T23:59:23Z</dcterms:modified>
  <cp:revision>36</cp:revision>
  <dc:subject/>
  <dc:title>PowerPoint Presentation</dc:title>
</cp:coreProperties>
</file>